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/Jan. 200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3B8-F35D-4374-A48D-C40E75686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FFFC-0B1C-44A4-82CB-784B510189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BF1-3278-4DB3-8A79-624A10700A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 the form you will see the five steps and our initial thinking about the alignment between the five steps and the ICC ECS and CE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the Content knowledge needs to include the ICC EC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sign each table/person a different CEI and see if there are any characteristics present in the unit.  Give first example (the teacher asked the students to research = students had access to a range of print materials as well as selected Web sites that the teacher had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okmarked prior to beginning project work. The students collected appropriate images for their documentaries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th by scanning pictures from books and via image searches online. They used a standard format and index cards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capture their research notes.  So with that info. I could say that the CEI rigor and relevant curriculum that some rigor was evid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ach table/person looks at the types of instructional activities and determines which CEI, if any, they address. (Steps 2 &amp; 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he content area teachers does to set up the learning opportunities to build student knowledge (conceptual or procedural), understanding and skill (both divergent and convergent thinking) (Activity Types) – connects to CE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lect the tools and resources to communicate particular content, enable learning tasks that are not possible without technology, and to help instruction be more engaging, effective, and effici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e think steps 1 and 5 are constant and that 2-4 can be done in a different ord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628-A5F5-43A5-81F6-3ACA86AC92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904-B586-4979-81FA-D05E893153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CF8B3-71A7-4294-889A-D4CE464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4BBAD-5A1B-4A3E-8DB8-70C77F4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DD56F-90F2-4EC3-AAB3-E7EAF5E8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4E782C-7704-439B-BD54-F485B4E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C8842-AEBB-4A29-9484-109AE25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0820C-689D-46C8-B121-6E49F90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B9601-FF6C-4521-AF22-D1CA431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A6F3E-24E4-4E48-A90E-A637DBA2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24FFE9-B562-465B-97A1-BCEA2ACA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58F3C-ED49-4AEF-96C9-8F0A67BE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D5628-11B5-4E5C-BEB3-969B7AC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CBE7B-3C9F-4045-A856-A6D4A7F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58207-CFE4-4259-AC6B-3F23359E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8E08F-AFC8-4C4C-AC83-13FD3E47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D247D-1621-4FC4-9FE4-8DAF59A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97EEA-8FC7-4607-A848-C20CBB3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65E60-5B3D-476F-8E2C-85A5C65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23A6E-6465-467D-88E6-0F94008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61996-EACD-44CD-9F53-DC555CD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78126-B727-44E0-A5C2-CDFD979B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802C7-04E9-49A1-B0BA-1AA7BE17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F3B348-4EBD-4BA6-8EFA-8DC6E3CF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2E0F76-87AC-4080-A12F-8588D95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9A22F-5DCF-496B-8CF8-CA7AB765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71F975-9E8E-4851-8090-312BA72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CB18A2-628A-4FD5-970D-BC561AD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7F9E9-A11E-4010-88B8-F7ED538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EEA0F9-1F2E-4F1C-B400-595078C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6FF10F-9C32-473A-8BD4-267C9D7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5DD6A4-DEFD-446C-B5A8-D2E845B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09174-A48E-433C-86CD-3AA64187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883DF2-9FA9-4944-9027-77DD96E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B05F6E-3CAA-4580-A2FE-8DEC84F9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11F3C4-9FB0-4B95-A27D-C09CBBC0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36EA06-0F09-4751-A0E3-474122E8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D109E5-FD8E-4BC2-85E9-1791C18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D37386-9663-4D6E-ABAB-D9D28DC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F3E637-274F-41BF-A36D-F8584568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7ACCD8-6EE3-4139-A886-FD98BB1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BBD188-4DEA-4252-B41B-BEF9AB3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61517F-22B7-4227-BD0B-0D5AE18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9CBBC-6226-45EE-AB9C-B867F43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CBFE1F-372C-410F-A595-FC3F183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5CB15C-FE53-41B4-9FC1-5325B44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7FCFB3-33A9-400F-96C4-C920CCA0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B0BCEB-4FED-4330-82CD-7D389AFE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9664D-AED7-40D1-9A7B-B3468E82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96B1-4C60-44BC-8527-584FE05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DC15E-5AE0-4C0E-A9E0-5343E24A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8DA43-47D2-4FAB-8A75-37B9845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3E1F1-656A-46DB-A973-24B5A45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9E52E-C4D4-4108-AE29-530C1E2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C47D8-14B5-4ED9-AF85-D8F2246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5647-3103-4302-B586-83508001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1D936-1F8F-4F60-B1D6-BA20D54F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E099-87D9-4A30-AE07-25DD6C74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20EA-4D3D-4ECC-9597-5D5CDD34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77F86-EA80-4E58-BD62-81509922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7FFFD-D84C-410F-9F54-E39BB68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5CDE5-B738-4CBE-8100-C8715A7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8F4A0-2293-4161-AAAE-DE486B2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F2FA0-8024-458A-86E4-4897A37E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CDF0B-1BCA-404B-A88E-901CA86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8FFAB-2A40-4558-9A9A-AF17F75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FFB11-F43A-4C1F-8292-D2B4665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33AB6-AD1D-42BC-82F9-1EF2F5B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1EC5C-F555-43AC-B49B-AB7DB9E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3CF4D-BFA0-4B83-AFE3-AE1D711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4182A-88C3-4B02-B93D-5EA30EB8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F05CC-A3D4-4791-A52C-50978463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306F9-64DB-4ACB-A27F-F8225E8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B88C4-1830-4C6F-BFF7-1B6913A3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4EF4D-6955-477F-BC7B-AB2B3104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B35DB-750E-406A-A303-685E295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C7A0F-D678-4AB1-B8F7-94A43C67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BD716-E49A-435C-951F-9AD75DC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3B6C1-06C9-4556-92DE-F313BA2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B14AF-AA93-436C-B978-D1A2589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2AA1F-5F20-43F8-BED2-3E3299F2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CA860-8EDB-441D-BDAB-48B85AC8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3D8EE-B179-403B-8EF3-9C7B3C0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927C5-859E-4BD4-9357-A5BC8888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D6AF3-99D7-47E0-AB05-97E667D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3ACB1-4348-45EC-9E98-98C84397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F1229-F3AB-4FB5-B77E-12441504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42C59-455D-4553-A542-BCBBB502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D7EB0-D545-45D5-AFCA-54B09D7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76689-4EDA-410D-8EC0-49F4498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A0BC9-7689-4008-A1FD-EFA76FE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435BF-4FB8-41A5-899D-0D97E6A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C6FA7-C8B2-4D45-98A0-03D72A1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7238F-82E4-4A3D-8EA5-C40973CB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4AD691-4726-4457-86E8-7EE8BB2F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1440D-559A-486A-9079-93E6AB95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77ED68-60FB-4C34-98F2-C65E7416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DA26B9-E3C5-46D0-AE00-4282BB74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E753F-F5B2-4AEF-B701-C87C74E6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E5691-7FCB-4151-9608-B045F5D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958E6-1777-4C65-ADDC-08A1217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89369-BEBB-494B-B0B7-58719CA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98E61-989D-49E5-85CB-966C5E84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D6305-0419-4260-98F4-9DB8375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ADDA9-F483-469D-AB36-5299A97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3B8D7-B5B3-48CD-A495-F3EB3CC1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A66D3-0397-4FE6-95A6-A9F774F3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AD4A1-72ED-4659-959D-00AA0169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9ADF4-4AF1-4ADC-8691-9EB8BEE0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5DE15-64F2-47EC-931B-77E5B99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69762-47FC-4F8F-9B22-EACFE3A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ECF94-52AF-4975-9BD8-1FDB1DA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F4D9C-B123-4370-B444-2C02B43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D079F-EE06-4853-A6CF-BA440EA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B91C2-CCA5-4309-A5C4-F5B2BF0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6E684-7E0F-4376-9D6B-AB79DBB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093AD-867B-4281-935F-59D8249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1A4D8-9CDC-4229-80FB-DAAB2AB1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F4D48-49F7-4E5E-9834-EE071357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A5083-6923-4F3B-A11D-26A21A8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9EB69-5EBF-4E70-8219-763953B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98213-3E94-49B0-96F8-C9B8451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CF153-DB9B-47C0-82D9-F4E7D5F4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98D5C7-5FB3-461D-AAC5-6EA94AE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347D90-0A9B-46A4-ADB9-8985D77C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DD6F7-F5D8-4F13-80D1-5BF9DB5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DDA94-DA30-4178-8CF6-C348BF3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25E62-D9DD-4872-A710-FC4EAA4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CE2DD-89EE-408A-B45F-78B7855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A2D11-4D9B-4D39-BDDD-856DDC33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50EB1-29D6-47C3-B58B-3A053266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A814F-8214-4652-9B31-56C5A63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C68EF-ED0A-4B44-8997-41DFB6F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D486D-0328-4066-BE26-5784C6D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D09-455C-4B26-8370-74B32E78A1C8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25D7-E865-40B9-A1FF-D509E1CF463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4C0-F843-4A4A-B854-6AAC00B2A3A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4B7B-A337-4481-B628-DAB713060761}" type="slidenum"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689-1E01-4F56-9C98-F39B97613AA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410-9A69-4451-865A-AA49A47F83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FB3B-1C8B-48A6-8A40-CD9AD2B7308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3E4-F375-4B17-BA53-50A0A77BECF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A5F-FF07-4FC3-B2D0-3A58829DA6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BC1D-DAEB-4966-A209-55834AD98C6D}" type="slidenum"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FC8-DF38-4E48-8C6D-3A7B9A1BD16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ctivitytypes.wmwikis.net/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TPAC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   </a:t>
            </a:r>
            <a:r>
              <a:rPr b="1" lang="en-US" sz="4400" spc="-1" strike="noStrike">
                <a:solidFill>
                  <a:srgbClr val="3a5750"/>
                </a:solidFill>
                <a:latin typeface="Tw Cen MT"/>
              </a:rPr>
              <a:t>5 Step Planning Process</a:t>
            </a: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             IA Core Curriculum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0" y="6149880"/>
            <a:ext cx="92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5750"/>
                </a:solidFill>
                <a:latin typeface="Arial"/>
              </a:rPr>
              <a:t>All for better Teaching and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22"/>
          <p:cNvSpPr/>
          <p:nvPr/>
        </p:nvSpPr>
        <p:spPr>
          <a:xfrm>
            <a:off x="152280" y="15228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…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Directions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91440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Read the artic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San Diego explores effective ed-tech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through TPACK”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Grounded Tech Integr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As you read, highlight statement(s) in the articles that are interesting from each article that you want to share with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When finished, discuss the artic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Next, read the “Tech Integration in Social Studies” article &amp; highlight important information you want to discu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Discuss this 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10"/>
          <p:cNvGrpSpPr/>
          <p:nvPr/>
        </p:nvGrpSpPr>
        <p:grpSpPr>
          <a:xfrm>
            <a:off x="304920" y="0"/>
            <a:ext cx="8839080" cy="6858000"/>
            <a:chOff x="304920" y="0"/>
            <a:chExt cx="8839080" cy="6858000"/>
          </a:xfrm>
        </p:grpSpPr>
        <p:pic>
          <p:nvPicPr>
            <p:cNvPr id="555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0"/>
              <a:ext cx="8839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12"/>
            <p:cNvSpPr/>
            <p:nvPr/>
          </p:nvSpPr>
          <p:spPr>
            <a:xfrm>
              <a:off x="304920" y="457200"/>
              <a:ext cx="2361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c9cff"/>
                  </a:solidFill>
                  <a:latin typeface="Arial"/>
                </a:rPr>
                <a:t>T</a:t>
              </a:r>
              <a:r>
                <a:rPr b="0" lang="en-US" sz="4800" spc="-1" strike="noStrike">
                  <a:solidFill>
                    <a:srgbClr val="91feff"/>
                  </a:solidFill>
                  <a:latin typeface="Arial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Rectangle 2"/>
          <p:cNvSpPr/>
          <p:nvPr/>
        </p:nvSpPr>
        <p:spPr>
          <a:xfrm>
            <a:off x="0" y="914400"/>
            <a:ext cx="304920" cy="5943600"/>
          </a:xfrm>
          <a:prstGeom prst="rect">
            <a:avLst/>
          </a:prstGeom>
          <a:solidFill>
            <a:srgbClr val="00206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0" y="0"/>
            <a:ext cx="304920" cy="914400"/>
          </a:xfrm>
          <a:prstGeom prst="rect">
            <a:avLst/>
          </a:prstGeom>
          <a:solidFill>
            <a:srgbClr val="3957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567040" y="54864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Whiteboard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Straight Arrow Connector 6"/>
          <p:cNvCxnSpPr/>
          <p:nvPr/>
        </p:nvCxnSpPr>
        <p:spPr>
          <a:xfrm flipH="1" flipV="1">
            <a:off x="4876200" y="4266360"/>
            <a:ext cx="991080" cy="122004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561" name="TextBox 7"/>
          <p:cNvSpPr/>
          <p:nvPr/>
        </p:nvSpPr>
        <p:spPr>
          <a:xfrm>
            <a:off x="5793480" y="16765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GI or AI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Straight Arrow Connector 8"/>
          <p:cNvCxnSpPr/>
          <p:nvPr/>
        </p:nvCxnSpPr>
        <p:spPr>
          <a:xfrm flipH="1">
            <a:off x="4647960" y="2057400"/>
            <a:ext cx="1676880" cy="53424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22"/>
          <p:cNvSpPr/>
          <p:nvPr/>
        </p:nvSpPr>
        <p:spPr>
          <a:xfrm>
            <a:off x="152280" y="15228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..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Directions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762120"/>
            <a:ext cx="9144000" cy="85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Read the ICC Characteristic of Effective Instruction (CEI) hand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Assign a person to each CE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Individually read the 6</a:t>
            </a:r>
            <a:r>
              <a:rPr b="1" lang="en-US" sz="2700" spc="-1" strike="noStrike" baseline="30000">
                <a:solidFill>
                  <a:srgbClr val="002e89"/>
                </a:solidFill>
                <a:latin typeface="Arial"/>
              </a:rPr>
              <a:t>th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grade U.S History ~ Civil War example unit. Filter the reading through the lens of the assigned CE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As a group, discuss the Moving from Texy to TPACK form and then complete it by getting everyone’s inform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(use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activitytypes.wmwikis.net/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to check out the activity types, descriptions, &amp; technologi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22"/>
          <p:cNvSpPr/>
          <p:nvPr/>
        </p:nvSpPr>
        <p:spPr>
          <a:xfrm>
            <a:off x="152280" y="152280"/>
            <a:ext cx="8991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…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Processin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990720"/>
            <a:ext cx="8686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8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0" y="144792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9"/>
                </a:solidFill>
                <a:latin typeface="Arial"/>
              </a:rPr>
              <a:t>What did you notice about the table tit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9"/>
                </a:solidFill>
                <a:latin typeface="Arial"/>
              </a:rPr>
              <a:t>How are these activity types similar to what your have used bef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7:07Z</dcterms:created>
  <dc:creator>Julie Crotty</dc:creator>
  <dc:description/>
  <dc:language>en-US</dc:language>
  <cp:lastModifiedBy>Julie Graber</cp:lastModifiedBy>
  <dcterms:modified xsi:type="dcterms:W3CDTF">2010-04-28T15:38:56Z</dcterms:modified>
  <cp:revision>773</cp:revision>
  <dc:subject/>
  <dc:title>Slide 1</dc:title>
</cp:coreProperties>
</file>